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8101-26F8-47D4-BE11-39DFAFE44D24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F3DB-E2DD-4202-9509-0FB2AB111725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D9CC-617A-45AE-A143-23D3190A02FC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DA57-91A6-4352-9295-4EFD2606F154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40CC-57D8-49DF-B077-640463734280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00B6-AC05-4A50-8E7F-15949222C872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E7FD-4E8B-4A01-AF49-3E05DBBA7ED8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8C9-2B7C-4F88-92FA-D9310813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532-FF53-4F24-BB05-925C8182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87F-7C28-4D42-A5D9-32D52907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9F7-99E8-4D44-8F4D-CAB81F46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5B1-156D-475E-8E3C-E5A6A888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883-AB12-4B34-AE3E-A014F9BB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7B2-6D46-4233-BD2E-CF986DB6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034C-1164-47E0-99D6-C5AE808E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9AA-946D-4ABE-8032-5501CF3F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36C-810E-4F36-95F8-48C72DF6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A42-4280-455F-BAE9-C4F44249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52E-95BC-403E-AE92-092A2F8F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56DD-3FF9-4D89-899A-84BE936E7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268360" y="1285920"/>
            <a:ext cx="6661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impacto de Internet en la participación política en Es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de tesis doct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hipótesis a testar mediante análisis de enc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4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9933"/>
                </a:solidFill>
                <a:latin typeface="Verdana"/>
              </a:rPr>
              <a:t>Marco teórico</a:t>
            </a:r>
            <a:endParaRPr b="0" lang="en-US" sz="2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175600" cy="49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iteratura sobre participación políti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1) Definición de la participación política y debates sobre clasificaciones: “convencional-no convencional”. Debate sobre cambios de repertorios, nuevos repertor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2) Factores explicativos de la participación: modelo de voluntarismo cívico y otras influencias o desarroll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Recursos socio-económicos (SE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l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mplicación psicológica: actitudes + valo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unity attachment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Un modelo glo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iteratura sobre el impacto de Interne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uso de Internet y los recur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uso de Internet y la implicación psicoló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uso de Internet y la creación de comun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uso de Internet y la participación polí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33"/>
                </a:solidFill>
                <a:latin typeface="Verdana"/>
              </a:rPr>
              <a:t>Principales hipótesis</a:t>
            </a:r>
            <a:endParaRPr b="0" lang="en-US" sz="2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161360"/>
            <a:ext cx="8064360" cy="44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uso más frecuente/intensivo de Internet aumenta la probabilidad del individuo de participar en polí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sposición de nuevos o mejore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arrollo de actitudes propiciadoras: más im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tenencia a comunidad más factible: impacto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uso más frecuente/intensivo de Internet potencia determinadas formas de participación política, menos institucionaliza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tipo de actitudes, recursos y comunidades a las que se acceden con el uso de Internet reúnen características propias de la predisposición a la acción política menos conven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33"/>
                </a:solidFill>
                <a:latin typeface="Verdana"/>
              </a:rPr>
              <a:t>Análisis mediante encuesta</a:t>
            </a:r>
            <a:endParaRPr b="0" lang="en-US" sz="2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61912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álisis clásicos de la particip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403280" y="2565360"/>
          <a:ext cx="2447640" cy="870840"/>
        </p:xfrm>
        <a:graphic>
          <a:graphicData uri="http://schemas.openxmlformats.org/drawingml/2006/table">
            <a:tbl>
              <a:tblPr/>
              <a:tblGrid>
                <a:gridCol w="2447640"/>
              </a:tblGrid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ctores (off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476360" y="4797360"/>
          <a:ext cx="2518920" cy="753840"/>
        </p:xfrm>
        <a:graphic>
          <a:graphicData uri="http://schemas.openxmlformats.org/drawingml/2006/table">
            <a:tbl>
              <a:tblPr/>
              <a:tblGrid>
                <a:gridCol w="2518920"/>
              </a:tblGrid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articipación (off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788000" y="2565360"/>
          <a:ext cx="2447640" cy="791640"/>
        </p:xfrm>
        <a:graphic>
          <a:graphicData uri="http://schemas.openxmlformats.org/drawingml/2006/table">
            <a:tbl>
              <a:tblPr/>
              <a:tblGrid>
                <a:gridCol w="2447640"/>
              </a:tblGrid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ctores (on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788000" y="4797360"/>
          <a:ext cx="2447640" cy="718560"/>
        </p:xfrm>
        <a:graphic>
          <a:graphicData uri="http://schemas.openxmlformats.org/drawingml/2006/table">
            <a:tbl>
              <a:tblPr/>
              <a:tblGrid>
                <a:gridCol w="2447640"/>
              </a:tblGrid>
              <a:tr h="7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ticipación (on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2556000" y="3573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92360" y="3573360"/>
            <a:ext cx="172728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3500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3645000"/>
            <a:ext cx="172872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6191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pue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2924280"/>
            <a:ext cx="576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3573360"/>
            <a:ext cx="4608720" cy="107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349360"/>
            <a:ext cx="536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15840" y="3614760"/>
            <a:ext cx="1269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3322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9933"/>
                </a:solidFill>
                <a:latin typeface="Verdana"/>
              </a:rPr>
              <a:t>(1) Análisis de los factores explicativos</a:t>
            </a:r>
            <a:endParaRPr b="0" lang="en-US" sz="24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55640" y="1413000"/>
          <a:ext cx="3164760" cy="942120"/>
        </p:xfrm>
        <a:graphic>
          <a:graphicData uri="http://schemas.openxmlformats.org/drawingml/2006/table">
            <a:tbl>
              <a:tblPr/>
              <a:tblGrid>
                <a:gridCol w="3164760"/>
              </a:tblGrid>
              <a:tr h="942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ctores (off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003640" y="1413000"/>
          <a:ext cx="3380760" cy="942120"/>
        </p:xfrm>
        <a:graphic>
          <a:graphicData uri="http://schemas.openxmlformats.org/drawingml/2006/table">
            <a:tbl>
              <a:tblPr/>
              <a:tblGrid>
                <a:gridCol w="3380760"/>
              </a:tblGrid>
              <a:tr h="94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ctores (on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4140360" y="1989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781360"/>
            <a:ext cx="763272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El uso de Internet y los recursos: ¿Internet como “social leveler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El uso de Internet y la implicación psicológ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Actitudes y 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Información política-sofist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El uso de Internet y la creación de comunidades: capital social online vs atom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3640" y="332280"/>
            <a:ext cx="8569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339933"/>
                </a:solidFill>
                <a:latin typeface="Verdana"/>
              </a:rPr>
              <a:t>(2) Factores explicativos de la participación política</a:t>
            </a:r>
            <a:endParaRPr b="0" lang="en-US" sz="22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332000" y="1341360"/>
          <a:ext cx="2447640" cy="870840"/>
        </p:xfrm>
        <a:graphic>
          <a:graphicData uri="http://schemas.openxmlformats.org/drawingml/2006/table">
            <a:tbl>
              <a:tblPr/>
              <a:tblGrid>
                <a:gridCol w="2447640"/>
              </a:tblGrid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ctores (off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403280" y="3645000"/>
          <a:ext cx="2518920" cy="753480"/>
        </p:xfrm>
        <a:graphic>
          <a:graphicData uri="http://schemas.openxmlformats.org/drawingml/2006/table">
            <a:tbl>
              <a:tblPr/>
              <a:tblGrid>
                <a:gridCol w="2518920"/>
              </a:tblGrid>
              <a:tr h="75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articipación (off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572000" y="1341360"/>
          <a:ext cx="2447640" cy="791640"/>
        </p:xfrm>
        <a:graphic>
          <a:graphicData uri="http://schemas.openxmlformats.org/drawingml/2006/table">
            <a:tbl>
              <a:tblPr/>
              <a:tblGrid>
                <a:gridCol w="2447640"/>
              </a:tblGrid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ctores (on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716360" y="3645000"/>
          <a:ext cx="2447640" cy="718200"/>
        </p:xfrm>
        <a:graphic>
          <a:graphicData uri="http://schemas.openxmlformats.org/drawingml/2006/table">
            <a:tbl>
              <a:tblPr/>
              <a:tblGrid>
                <a:gridCol w="2447640"/>
              </a:tblGrid>
              <a:tr h="71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articipación (on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2484360" y="2349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419280" y="2492280"/>
            <a:ext cx="172692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227664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565360"/>
            <a:ext cx="172872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4941720"/>
            <a:ext cx="770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odelo global para participación online y off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odelos diferenciados para modos participa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3:43:24Z</dcterms:created>
  <dc:creator>sbau</dc:creator>
  <dc:description/>
  <dc:language>en-US</dc:language>
  <cp:lastModifiedBy> Marta Luque Fernández</cp:lastModifiedBy>
  <dcterms:modified xsi:type="dcterms:W3CDTF">2008-06-06T18:22:55Z</dcterms:modified>
  <cp:revision>79</cp:revision>
  <dc:subject/>
  <dc:title>Sin título de diapositiva</dc:title>
</cp:coreProperties>
</file>